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65E-6E7B-479B-9BDC-FB321875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17E-DD40-4294-8779-5F5165FA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A90-04EA-4027-B7D4-D2D51E01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709-71EB-4DDA-8AD6-5AB8C47C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D49-DFC2-4E54-A337-3360808D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6BC-EAF5-49FF-B545-55948DF7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E70-1DAB-42A4-B6B9-3B7AD8D6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0B4-648F-4364-93D4-768FEDA1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393-1C7A-4101-BF0F-EE1D747C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FEB-A08B-4821-8C10-99DE8263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3A3-D402-4756-8B29-D51E38B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E81-9C39-40BE-941D-77896B44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5A24-5C60-4832-91EE-D91E58C2F8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youtube.com/watch?v=wwHOu34vhqk&amp;feature=fvs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lid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lide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Sli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042920" y="56959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non-polar lipid bi-layer does not allow polar molecules to pass through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484200" y="633096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Without a semi-permeable membran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79280" y="458136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unwanted and potentially harmful particles could enter the cel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108000" y="84456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and cause catastrophic effect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8000" y="1628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wwHOu34vhqk&amp;feature=fvst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4597a0"/>
                </a:solidFill>
                <a:latin typeface="Arial"/>
              </a:rPr>
              <a:t>(full cl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lid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Slid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9:05:06Z</dcterms:created>
  <dc:creator>Ali</dc:creator>
  <dc:description/>
  <dc:language>en-US</dc:language>
  <cp:lastModifiedBy>Joel</cp:lastModifiedBy>
  <dcterms:modified xsi:type="dcterms:W3CDTF">2011-03-22T01:09:28Z</dcterms:modified>
  <cp:revision>4</cp:revision>
  <dc:subject/>
  <dc:title>Slide 1</dc:title>
</cp:coreProperties>
</file>